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52CE3-3680-4172-A7F9-027C64283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CC18A-5503-4739-AF78-E7B3BCC06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81772-A70D-451E-B4DD-E1DA3A7BC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116BB-5AA2-42D9-A901-B07CA7F39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5CD65-9EC2-40A0-9201-F714A8225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A28A9-8585-40F7-A983-81D697F35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1B3F9-9890-44C8-AF3F-02421095D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84BAB-ADAC-4A92-A2E2-9E4D934EB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CF081-B6E2-46D8-B770-43849AC20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D741A-5AD0-4D14-811E-E5087BD86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CBE3B-7205-4CC9-BE9F-EE9919D70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8DAE6-85B4-4AE8-9E8A-88DD65C00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BC27F-C5C4-4461-B0BB-D1A5930E6B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152280"/>
            <a:ext cx="8839440" cy="6553440"/>
          </a:xfrm>
          <a:prstGeom prst="roundRect">
            <a:avLst>
              <a:gd name="adj" fmla="val 16667"/>
            </a:avLst>
          </a:prstGeom>
          <a:noFill/>
          <a:ln w="507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84872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Garamond"/>
                <a:ea typeface="바탕"/>
              </a:rPr>
              <a:t>You Are</a:t>
            </a:r>
            <a:br>
              <a:rPr sz="4400"/>
            </a:br>
            <a:r>
              <a:rPr b="1" lang="en-US" sz="4400" spc="-1" strike="noStrike">
                <a:solidFill>
                  <a:srgbClr val="0033cc"/>
                </a:solidFill>
                <a:latin typeface="Garamond"/>
                <a:ea typeface="바탕"/>
              </a:rPr>
              <a:t>A </a:t>
            </a:r>
            <a:br>
              <a:rPr sz="4400"/>
            </a:br>
            <a:r>
              <a:rPr b="1" lang="en-US" sz="4400" spc="-1" strike="noStrike">
                <a:solidFill>
                  <a:srgbClr val="0033cc"/>
                </a:solidFill>
                <a:latin typeface="Garamond"/>
                <a:ea typeface="바탕"/>
              </a:rPr>
              <a:t>CHRISTI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447920" y="548604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Course of Study for the New Child of G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rcRect l="0" t="0" r="736" b="0"/>
          <a:stretch/>
        </p:blipFill>
        <p:spPr>
          <a:xfrm>
            <a:off x="2743200" y="2133720"/>
            <a:ext cx="3687840" cy="330516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You Are A CHRISTI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-812880">
              <a:spcBef>
                <a:spcPts val="799"/>
              </a:spcBef>
              <a:buClr>
                <a:srgbClr val="0033cc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How Did You Become A Christia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752480" y="838080"/>
            <a:ext cx="5715000" cy="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80880" y="1676520"/>
            <a:ext cx="838224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Acts 2:36-4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6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"Therefore let all the house of Israel know assuredly that God has made this Jesus, whom you crucified, both Lord and Christ.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7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Now when they heard this, they were cut to the heart, and said to Peter and the rest of the apostles, "Men and brethren, what shall we do?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8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en Peter said to them, "Repent, and let every one of you be baptized in the name of Jesus Christ for the remission of sins; and you shall receive the gift of the Holy Spiri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9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"For the promise is to you and to your children, and to all who are afar off, as many as the Lord our God will call.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0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with many other words he testified and exhorted them, saying, "Be saved from this perverse generation.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1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en those who gladly received his word were baptized; and that day about three thousand souls were added to th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You Are A CHRISTI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-812880">
              <a:spcBef>
                <a:spcPts val="799"/>
              </a:spcBef>
              <a:buClr>
                <a:srgbClr val="0033cc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How Did You Become A Christia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ou heard the word of G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52480" y="838080"/>
            <a:ext cx="5715000" cy="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62120" y="2362320"/>
            <a:ext cx="8001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33cc"/>
                </a:solidFill>
                <a:uFillTx/>
                <a:latin typeface="Arial"/>
              </a:rPr>
              <a:t>Romans 10:1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7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o then faith comes by hearing, and hearing by the word of G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You Are A CHRISTI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-812880">
              <a:spcBef>
                <a:spcPts val="799"/>
              </a:spcBef>
              <a:buClr>
                <a:srgbClr val="0033cc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How Did You Become A Christia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752480" y="838080"/>
            <a:ext cx="5715000" cy="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You Are A CHRISTI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-812880">
              <a:spcBef>
                <a:spcPts val="799"/>
              </a:spcBef>
              <a:buClr>
                <a:srgbClr val="0033cc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How Did You Become A Christia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ou believed in Jesus Christ as the Son of G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752480" y="838080"/>
            <a:ext cx="5715000" cy="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62120" y="2666880"/>
            <a:ext cx="8001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33cc"/>
                </a:solidFill>
                <a:uFillTx/>
                <a:latin typeface="Arial"/>
              </a:rPr>
              <a:t>John 8:2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4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"Therefore I said to you that you will die in your sins; for if you do not believe that I am He, you will die in your sins.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You Are A CHRISTI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-812880">
              <a:spcBef>
                <a:spcPts val="799"/>
              </a:spcBef>
              <a:buClr>
                <a:srgbClr val="0033cc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How Did You Become A Christia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ou believed in Jesus Christ as the Son of G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752480" y="838080"/>
            <a:ext cx="5715000" cy="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62120" y="2666880"/>
            <a:ext cx="8001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33cc"/>
                </a:solidFill>
                <a:uFillTx/>
                <a:latin typeface="Arial"/>
              </a:rPr>
              <a:t>Mark 16: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6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"He who believes and is baptized will be saved; but he who does not believe will be condemned.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You Are A CHRISTI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-812880">
              <a:spcBef>
                <a:spcPts val="799"/>
              </a:spcBef>
              <a:buClr>
                <a:srgbClr val="0033cc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How Did You Become A Christia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52480" y="838080"/>
            <a:ext cx="5715000" cy="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You Are A CHRISTI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-812880">
              <a:spcBef>
                <a:spcPts val="799"/>
              </a:spcBef>
              <a:buClr>
                <a:srgbClr val="0033cc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How Did You Become A Christia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ou repented of your si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752480" y="838080"/>
            <a:ext cx="5715000" cy="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62120" y="2666880"/>
            <a:ext cx="8001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33cc"/>
                </a:solidFill>
                <a:uFillTx/>
                <a:latin typeface="Arial"/>
              </a:rPr>
              <a:t>Acts 2: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8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en Peter said to them, "Repent, and let every one of you be baptized in the name of Jesus Christ for the remission of sins; and you shall receive the gift of the Holy Spirit.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You Are A CHRISTI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-812880">
              <a:spcBef>
                <a:spcPts val="799"/>
              </a:spcBef>
              <a:buClr>
                <a:srgbClr val="0033cc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How Did You Become A Christia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752480" y="838080"/>
            <a:ext cx="5715000" cy="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You Are A CHRISTI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-812880">
              <a:spcBef>
                <a:spcPts val="799"/>
              </a:spcBef>
              <a:buClr>
                <a:srgbClr val="0033cc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How Did You Become A Christia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ou confessed faith in Christ as the Son of G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752480" y="838080"/>
            <a:ext cx="5715000" cy="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2120" y="2666880"/>
            <a:ext cx="8001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33cc"/>
                </a:solidFill>
                <a:uFillTx/>
                <a:latin typeface="Arial"/>
              </a:rPr>
              <a:t>Romans 10:9-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9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…that if you confess with your mouth the Lord Jesus and believe in your heart that God has raised Him from the dead, you will be sav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0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r with the heart one believes unto righteousness, and with the mouth confession is made unto salv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You Are A CHRISTI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-812880">
              <a:spcBef>
                <a:spcPts val="799"/>
              </a:spcBef>
              <a:buClr>
                <a:srgbClr val="0033cc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How Did You Become A Christia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752480" y="838080"/>
            <a:ext cx="5715000" cy="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You Are A CHRISTI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Expectations for this stud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752480" y="838080"/>
            <a:ext cx="5715000" cy="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You Are A CHRISTI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-812880">
              <a:spcBef>
                <a:spcPts val="799"/>
              </a:spcBef>
              <a:buClr>
                <a:srgbClr val="0033cc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How Did You Become A Christia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ou were baptized into Christ for the remission of your si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752480" y="838080"/>
            <a:ext cx="5715000" cy="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62120" y="2666880"/>
            <a:ext cx="8001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33cc"/>
                </a:solidFill>
                <a:uFillTx/>
                <a:latin typeface="Arial"/>
              </a:rPr>
              <a:t>Acts 2: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8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en Peter said to them, "Repent, and let every one of you be baptized in the name of Jesus Christ for the remission of sins; and you shall receive the gift of the Holy Spirit.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You Are A CHRISTI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-812880">
              <a:spcBef>
                <a:spcPts val="799"/>
              </a:spcBef>
              <a:buClr>
                <a:srgbClr val="0033cc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How Did You Become A Christia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752480" y="838080"/>
            <a:ext cx="5715000" cy="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You Are A CHRISTI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-812880">
              <a:spcBef>
                <a:spcPts val="799"/>
              </a:spcBef>
              <a:buClr>
                <a:srgbClr val="0033cc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How Did You Become A Christia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ou were added by the Lord to His churc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52480" y="838080"/>
            <a:ext cx="5715000" cy="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62120" y="2666880"/>
            <a:ext cx="8001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33cc"/>
                </a:solidFill>
                <a:uFillTx/>
                <a:latin typeface="Arial"/>
              </a:rPr>
              <a:t>Acts 2:4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7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raising God and having favor with all the people. And the Lord added to the church daily those who were being sav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You Are A CHRISTI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-812880">
              <a:spcBef>
                <a:spcPts val="799"/>
              </a:spcBef>
              <a:buClr>
                <a:srgbClr val="0033cc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How Did You Become A Christia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ou heard the word of G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ou believed in Jesus Christ as the Son of G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ou repented of your si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ou confessed faith in Christ as the Son of G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ou were baptized into Christ for the remission of your si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ou were added by the Lord to His churc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752480" y="838080"/>
            <a:ext cx="5715000" cy="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You Are A CHRISTI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-812880">
              <a:spcBef>
                <a:spcPts val="799"/>
              </a:spcBef>
              <a:buClr>
                <a:srgbClr val="0033cc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How Did You Become A Christia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752480" y="838080"/>
            <a:ext cx="5715000" cy="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62120" y="3124080"/>
            <a:ext cx="8001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33cc"/>
                </a:solidFill>
                <a:uFillTx/>
                <a:latin typeface="Arial"/>
              </a:rPr>
              <a:t>Acts 11:2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6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when he had found him, he brought him to Antioch. So it was that for a whole year they assembled with the church and taught a great many people. And the disciples were first called Christians in Antioch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2133720"/>
            <a:ext cx="5715000" cy="642600"/>
          </a:xfrm>
          <a:prstGeom prst="rect">
            <a:avLst/>
          </a:prstGeom>
          <a:solidFill>
            <a:srgbClr val="0033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YOU ARE A CHRISTIAN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You Are A CHRISTI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752480" y="838080"/>
            <a:ext cx="5715000" cy="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You Are A CHRISTI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-812880">
              <a:lnSpc>
                <a:spcPct val="90000"/>
              </a:lnSpc>
              <a:spcBef>
                <a:spcPts val="799"/>
              </a:spcBef>
              <a:buClr>
                <a:srgbClr val="0033cc"/>
              </a:buClr>
              <a:buFont typeface="Arial"/>
              <a:buAutoNum type="roman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What Is Expected Of You Now That You Are A Christia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752480" y="838080"/>
            <a:ext cx="5715000" cy="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You Are A CHRISTI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-812880">
              <a:lnSpc>
                <a:spcPct val="90000"/>
              </a:lnSpc>
              <a:spcBef>
                <a:spcPts val="799"/>
              </a:spcBef>
              <a:buClr>
                <a:srgbClr val="0033cc"/>
              </a:buClr>
              <a:buFont typeface="Arial"/>
              <a:buAutoNum type="roman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What Is Expected Of You Now That You Are A Christia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ou must live a transformed life (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Romans 12:1-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52480" y="838080"/>
            <a:ext cx="5715000" cy="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You Are A CHRISTI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-812880">
              <a:lnSpc>
                <a:spcPct val="90000"/>
              </a:lnSpc>
              <a:spcBef>
                <a:spcPts val="799"/>
              </a:spcBef>
              <a:buClr>
                <a:srgbClr val="0033cc"/>
              </a:buClr>
              <a:buFont typeface="Arial"/>
              <a:buAutoNum type="roman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What Is Expected Of You Now That You Are A Christia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ou must live a transformed life (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Romans 12:1-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ou must live as a child of God (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1 John 3:1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752480" y="838080"/>
            <a:ext cx="5715000" cy="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You Are A CHRISTI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-812880">
              <a:lnSpc>
                <a:spcPct val="90000"/>
              </a:lnSpc>
              <a:spcBef>
                <a:spcPts val="799"/>
              </a:spcBef>
              <a:buClr>
                <a:srgbClr val="0033cc"/>
              </a:buClr>
              <a:buFont typeface="Arial"/>
              <a:buAutoNum type="roman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What Is Expected Of You Now That You Are A Christia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ou must live a transformed life (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Romans 12:1-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ou must live as a child of God (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1 John 3:1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ou must grow up in Christ (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1 Peter 2:1-2; 2 Peter 3:18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752480" y="838080"/>
            <a:ext cx="5715000" cy="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You Are A CHRISTI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Expectations for this stud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 expect all of us to put forth effort in this cla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752480" y="838080"/>
            <a:ext cx="5715000" cy="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You Are A CHRISTI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-812880">
              <a:lnSpc>
                <a:spcPct val="90000"/>
              </a:lnSpc>
              <a:spcBef>
                <a:spcPts val="799"/>
              </a:spcBef>
              <a:buClr>
                <a:srgbClr val="0033cc"/>
              </a:buClr>
              <a:buFont typeface="Arial"/>
              <a:buAutoNum type="roman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What Is Expected Of You Now That You Are A Christia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ou must live a transformed life (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Romans 12:1-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ou must live as a child of God (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1 John 3:1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ou must grow up in Christ (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1 Peter 2:1-2; 2 Peter 3:18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ou must grow by feeding on the word of God (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cts 20:3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752480" y="838080"/>
            <a:ext cx="5715000" cy="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You Are A CHRISTI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-812880">
              <a:lnSpc>
                <a:spcPct val="90000"/>
              </a:lnSpc>
              <a:spcBef>
                <a:spcPts val="799"/>
              </a:spcBef>
              <a:buClr>
                <a:srgbClr val="0033cc"/>
              </a:buClr>
              <a:buFont typeface="Arial"/>
              <a:buAutoNum type="roman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What Is Expected Of You Now That You Are A Christia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ou must live a transformed life (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Romans 12:1-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ou must live as a child of God (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1 John 3:1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ou must grow up in Christ (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1 Peter 2:1-2; 2 Peter 3:18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ou must grow by feeding on the word of God (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cts 20:3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ou must develop a healthy spiritual appetite (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Matthew 5:6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52480" y="838080"/>
            <a:ext cx="5715000" cy="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You Are A CHRISTI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752480" y="838080"/>
            <a:ext cx="5715000" cy="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You Are A CHRISTI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-812880">
              <a:spcBef>
                <a:spcPts val="799"/>
              </a:spcBef>
              <a:buClr>
                <a:srgbClr val="0033cc"/>
              </a:buClr>
              <a:buFont typeface="Arial"/>
              <a:buAutoNum type="roman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How Can You Grow As A Christia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752480" y="838080"/>
            <a:ext cx="5715000" cy="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09480" y="1676520"/>
            <a:ext cx="8153640" cy="45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 u="sng">
                <a:solidFill>
                  <a:srgbClr val="0033cc"/>
                </a:solidFill>
                <a:uFillTx/>
                <a:latin typeface="Arial"/>
              </a:rPr>
              <a:t>2 Peter 1:5-11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5)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But also for this very reason, giving all diligence, add to your faith virtue, to virtue knowledge,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6)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to knowledge self-control, to self-control perseverance, to perseverance godliness,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7)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to godliness brotherly kindness, and to brotherly kindness love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8)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For if these things are yours and abound, you will be neither barren nor unfruitful in the knowledge of our Lord Jesus Christ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9)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For he who lacks these things is shortsighted, even to blindness, and has forgotten that he was cleansed from his old sin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10)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Therefore, brethren, be even more diligent to make your call and election sure, for if you do these things you will never stumble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11)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for so an entrance will be supplied to you abundantly into the everlasting kingdom of our Lord and Savior Jesus Christ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You Are A CHRISTI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-812880">
              <a:spcBef>
                <a:spcPts val="799"/>
              </a:spcBef>
              <a:buClr>
                <a:srgbClr val="0033cc"/>
              </a:buClr>
              <a:buFont typeface="Arial"/>
              <a:buAutoNum type="roman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How Can You Grow As A Christia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752480" y="838080"/>
            <a:ext cx="5715000" cy="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09480" y="1676520"/>
            <a:ext cx="8153640" cy="45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 u="sng">
                <a:solidFill>
                  <a:srgbClr val="0033cc"/>
                </a:solidFill>
                <a:uFillTx/>
                <a:latin typeface="Arial"/>
              </a:rPr>
              <a:t>2 Peter 1:5-11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5)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But also for this very reason, giving all diligence, add to your faith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virtue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, to virtue knowledge,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6)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to knowledge self-control, to self-control perseverance, to perseverance godliness,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7)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to godliness brotherly kindness, and to brotherly kindness love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8)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For if these things are yours and abound, you will be neither barren nor unfruitful in the knowledge of our Lord Jesus Christ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9)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For he who lacks these things is shortsighted, even to blindness, and has forgotten that he was cleansed from his old sin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10)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Therefore, brethren, be even more diligent to make your call and election sure, for if you do these things you will never stumble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11)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for so an entrance will be supplied to you abundantly into the everlasting kingdom of our Lord and Savior Jesus Christ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You Are A CHRISTI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-812880">
              <a:spcBef>
                <a:spcPts val="799"/>
              </a:spcBef>
              <a:buClr>
                <a:srgbClr val="0033cc"/>
              </a:buClr>
              <a:buFont typeface="Arial"/>
              <a:buAutoNum type="roman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How Can You Grow As A Christia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52480" y="838080"/>
            <a:ext cx="5715000" cy="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09480" y="1676520"/>
            <a:ext cx="8153640" cy="45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 u="sng">
                <a:solidFill>
                  <a:srgbClr val="0033cc"/>
                </a:solidFill>
                <a:uFillTx/>
                <a:latin typeface="Arial"/>
              </a:rPr>
              <a:t>2 Peter 1:5-11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5)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But also for this very reason, giving all diligence, add to your faith virtue, to virtue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knowledge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6)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to knowledge self-control, to self-control perseverance, to perseverance godliness,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7)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to godliness brotherly kindness, and to brotherly kindness love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8)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For if these things are yours and abound, you will be neither barren nor unfruitful in the knowledge of our Lord Jesus Christ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9)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For he who lacks these things is shortsighted, even to blindness, and has forgotten that he was cleansed from his old sin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10)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Therefore, brethren, be even more diligent to make your call and election sure, for if you do these things you will never stumble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11)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for so an entrance will be supplied to you abundantly into the everlasting kingdom of our Lord and Savior Jesus Christ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You Are A CHRISTI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-812880">
              <a:spcBef>
                <a:spcPts val="799"/>
              </a:spcBef>
              <a:buClr>
                <a:srgbClr val="0033cc"/>
              </a:buClr>
              <a:buFont typeface="Arial"/>
              <a:buAutoNum type="roman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How Can You Grow As A Christia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752480" y="838080"/>
            <a:ext cx="5715000" cy="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09480" y="1676520"/>
            <a:ext cx="8153640" cy="45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 u="sng">
                <a:solidFill>
                  <a:srgbClr val="0033cc"/>
                </a:solidFill>
                <a:uFillTx/>
                <a:latin typeface="Arial"/>
              </a:rPr>
              <a:t>2 Peter 1:5-11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5)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But also for this very reason, giving all diligence, add to your faith virtue, to virtue knowledge,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6)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to knowledge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self-control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, to self-control perseverance, to perseverance godliness,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7)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to godliness brotherly kindness, and to brotherly kindness love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8)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For if these things are yours and abound, you will be neither barren nor unfruitful in the knowledge of our Lord Jesus Christ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9)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For he who lacks these things is shortsighted, even to blindness, and has forgotten that he was cleansed from his old sin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10)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Therefore, brethren, be even more diligent to make your call and election sure, for if you do these things you will never stumble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11)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for so an entrance will be supplied to you abundantly into the everlasting kingdom of our Lord and Savior Jesus Christ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You Are A CHRISTI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-812880">
              <a:spcBef>
                <a:spcPts val="799"/>
              </a:spcBef>
              <a:buClr>
                <a:srgbClr val="0033cc"/>
              </a:buClr>
              <a:buFont typeface="Arial"/>
              <a:buAutoNum type="roman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How Can You Grow As A Christia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52480" y="838080"/>
            <a:ext cx="5715000" cy="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09480" y="1676520"/>
            <a:ext cx="8153640" cy="45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 u="sng">
                <a:solidFill>
                  <a:srgbClr val="0033cc"/>
                </a:solidFill>
                <a:uFillTx/>
                <a:latin typeface="Arial"/>
              </a:rPr>
              <a:t>2 Peter 1:5-11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5)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But also for this very reason, giving all diligence, add to your faith virtue, to virtue knowledge,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6)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to knowledge self-control, to self-control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perseverance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, to perseverance godliness,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7)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to godliness brotherly kindness, and to brotherly kindness love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8)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For if these things are yours and abound, you will be neither barren nor unfruitful in the knowledge of our Lord Jesus Christ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9)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For he who lacks these things is shortsighted, even to blindness, and has forgotten that he was cleansed from his old sin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10)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Therefore, brethren, be even more diligent to make your call and election sure, for if you do these things you will never stumble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11)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for so an entrance will be supplied to you abundantly into the everlasting kingdom of our Lord and Savior Jesus Christ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You Are A CHRISTI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-812880">
              <a:spcBef>
                <a:spcPts val="799"/>
              </a:spcBef>
              <a:buClr>
                <a:srgbClr val="0033cc"/>
              </a:buClr>
              <a:buFont typeface="Arial"/>
              <a:buAutoNum type="roman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How Can You Grow As A Christia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752480" y="838080"/>
            <a:ext cx="5715000" cy="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09480" y="1676520"/>
            <a:ext cx="8153640" cy="45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 u="sng">
                <a:solidFill>
                  <a:srgbClr val="0033cc"/>
                </a:solidFill>
                <a:uFillTx/>
                <a:latin typeface="Arial"/>
              </a:rPr>
              <a:t>2 Peter 1:5-11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5)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But also for this very reason, giving all diligence, add to your faith virtue, to virtue knowledge,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6)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to knowledge self-control, to self-control perseverance, to perseverance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godliness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7)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to godliness brotherly kindness, and to brotherly kindness love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8)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For if these things are yours and abound, you will be neither barren nor unfruitful in the knowledge of our Lord Jesus Christ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9)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For he who lacks these things is shortsighted, even to blindness, and has forgotten that he was cleansed from his old sin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10)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Therefore, brethren, be even more diligent to make your call and election sure, for if you do these things you will never stumble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11)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for so an entrance will be supplied to you abundantly into the everlasting kingdom of our Lord and Savior Jesus Christ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You Are A CHRISTI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-812880">
              <a:spcBef>
                <a:spcPts val="799"/>
              </a:spcBef>
              <a:buClr>
                <a:srgbClr val="0033cc"/>
              </a:buClr>
              <a:buFont typeface="Arial"/>
              <a:buAutoNum type="roman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How Can You Grow As A Christia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752480" y="838080"/>
            <a:ext cx="5715000" cy="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09480" y="1676520"/>
            <a:ext cx="8153640" cy="45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 u="sng">
                <a:solidFill>
                  <a:srgbClr val="0033cc"/>
                </a:solidFill>
                <a:uFillTx/>
                <a:latin typeface="Arial"/>
              </a:rPr>
              <a:t>2 Peter 1:5-11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5)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But also for this very reason, giving all diligence, add to your faith virtue, to virtue knowledge,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6)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to knowledge self-control, to self-control perseverance, to perseverance godliness,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7)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to godliness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brotherly kindness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, and to brotherly kindness love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8)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For if these things are yours and abound, you will be neither barren nor unfruitful in the knowledge of our Lord Jesus Christ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9)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For he who lacks these things is shortsighted, even to blindness, and has forgotten that he was cleansed from his old sin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10)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Therefore, brethren, be even more diligent to make your call and election sure, for if you do these things you will never stumble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11)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for so an entrance will be supplied to you abundantly into the everlasting kingdom of our Lord and Savior Jesus Christ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You Are A CHRISTI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Expectations for this stud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 expect all of us to put forth effort in this cla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 expect that we will all come to class with lessons prepar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2480" y="838080"/>
            <a:ext cx="5715000" cy="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You Are A CHRISTI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-812880">
              <a:spcBef>
                <a:spcPts val="799"/>
              </a:spcBef>
              <a:buClr>
                <a:srgbClr val="0033cc"/>
              </a:buClr>
              <a:buFont typeface="Arial"/>
              <a:buAutoNum type="roman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How Can You Grow As A Christia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752480" y="838080"/>
            <a:ext cx="5715000" cy="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09480" y="1676520"/>
            <a:ext cx="8153640" cy="45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 u="sng">
                <a:solidFill>
                  <a:srgbClr val="0033cc"/>
                </a:solidFill>
                <a:uFillTx/>
                <a:latin typeface="Arial"/>
              </a:rPr>
              <a:t>2 Peter 1:5-11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5)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But also for this very reason, giving all diligence, add to your faith virtue, to virtue knowledge,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6)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to knowledge self-control, to self-control perseverance, to perseverance godliness,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7)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to godliness brotherly kindness, and to brotherly kindness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love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8)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For if these things are yours and abound, you will be neither barren nor unfruitful in the knowledge of our Lord Jesus Christ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9)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For he who lacks these things is shortsighted, even to blindness, and has forgotten that he was cleansed from his old sin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10)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Therefore, brethren, be even more diligent to make your call and election sure, for if you do these things you will never stumble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11)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for so an entrance will be supplied to you abundantly into the everlasting kingdom of our Lord and Savior Jesus Christ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You Are A CHRISTI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-812880">
              <a:spcBef>
                <a:spcPts val="799"/>
              </a:spcBef>
              <a:buClr>
                <a:srgbClr val="0033cc"/>
              </a:buClr>
              <a:buFont typeface="Arial"/>
              <a:buAutoNum type="roman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How Can You Grow As A Christia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752480" y="838080"/>
            <a:ext cx="5715000" cy="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676520"/>
            <a:ext cx="8153640" cy="45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 u="sng">
                <a:solidFill>
                  <a:srgbClr val="0033cc"/>
                </a:solidFill>
                <a:uFillTx/>
                <a:latin typeface="Arial"/>
              </a:rPr>
              <a:t>2 Peter 1:5-11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5)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But also for this very reason, giving all diligence, add to your faith virtue, to virtue knowledge,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6)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to knowledge self-control, to self-control perseverance, to perseverance godliness,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7)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to godliness brotherly kindness, and to brotherly kindness love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8)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For if these things are yours and abound, you will be neither barren nor unfruitful in the knowledge of our Lord Jesus Christ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9)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For he who lacks these things is shortsighted, even to blindness, and has forgotten that he was cleansed from his old sin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10)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Therefore, brethren, be even more diligent to make your call and election sure, for if you do these things you will never stumble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11)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for so an entrance will be supplied to you abundantly into the everlasting kingdom of our Lord and Savior Jesus Christ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You Are A CHRISTI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-812880">
              <a:spcBef>
                <a:spcPts val="4000"/>
              </a:spcBef>
              <a:buClr>
                <a:srgbClr val="0033cc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How Did You Become A Christia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4000"/>
              </a:spcBef>
              <a:buClr>
                <a:srgbClr val="0033cc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What Is Expected Of You Now That You Are A Christia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4000"/>
              </a:spcBef>
              <a:buClr>
                <a:srgbClr val="0033cc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How Can You Grow As A Christia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752480" y="838080"/>
            <a:ext cx="5715000" cy="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You Are A CHRISTI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Expectations for this stud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 expect all of us to put forth effort in this cla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 expect that we will all come to class with lessons prepar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 expect various individuals to answer the questions in class, instead of only a few volunte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838080"/>
            <a:ext cx="5715000" cy="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You Are A CHRISTI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Expectations for this stud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 expect all of us to put forth effort in this cla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 expect that we will all come to class with lessons prepar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 expect various individuals to answer the questions in class, instead of only a few volunte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 expect that we will “grow in the grace and knowledge of our Lord and Savior Jesus Christ” (2 Pet. 3:18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752480" y="838080"/>
            <a:ext cx="5715000" cy="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84872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Garamond"/>
                <a:ea typeface="바탕"/>
              </a:rPr>
              <a:t>You Are</a:t>
            </a:r>
            <a:br>
              <a:rPr sz="4400"/>
            </a:br>
            <a:r>
              <a:rPr b="1" lang="en-US" sz="4400" spc="-1" strike="noStrike">
                <a:solidFill>
                  <a:srgbClr val="0033cc"/>
                </a:solidFill>
                <a:latin typeface="Garamond"/>
                <a:ea typeface="바탕"/>
              </a:rPr>
              <a:t>A </a:t>
            </a:r>
            <a:br>
              <a:rPr sz="4400"/>
            </a:br>
            <a:r>
              <a:rPr b="1" lang="en-US" sz="4400" spc="-1" strike="noStrike">
                <a:solidFill>
                  <a:srgbClr val="0033cc"/>
                </a:solidFill>
                <a:latin typeface="Garamond"/>
                <a:ea typeface="바탕"/>
              </a:rPr>
              <a:t>CHRISTI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447920" y="548604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Course of Study for the New Child of G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rcRect l="0" t="0" r="736" b="0"/>
          <a:stretch/>
        </p:blipFill>
        <p:spPr>
          <a:xfrm>
            <a:off x="2743200" y="2133720"/>
            <a:ext cx="3687840" cy="33051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3433320" y="5943600"/>
            <a:ext cx="225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You Are A CHRISTI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752480" y="838080"/>
            <a:ext cx="5715000" cy="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You Are A CHRISTI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-812880">
              <a:spcBef>
                <a:spcPts val="799"/>
              </a:spcBef>
              <a:buClr>
                <a:srgbClr val="0033cc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How Did You Become A Christia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52480" y="838080"/>
            <a:ext cx="5715000" cy="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27T18:47:07Z</dcterms:created>
  <dc:creator>Dave</dc:creator>
  <dc:description/>
  <dc:language>en-US</dc:language>
  <cp:lastModifiedBy>Dave</cp:lastModifiedBy>
  <dcterms:modified xsi:type="dcterms:W3CDTF">2011-12-27T20:12:23Z</dcterms:modified>
  <cp:revision>6</cp:revision>
  <dc:subject/>
  <dc:title>Slide 1</dc:title>
</cp:coreProperties>
</file>